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854-C3F8-4621-AE9D-7D89D781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327-FA27-4256-A78B-759E7CAD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CC7-6AFB-49ED-AB91-0B7A32F2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EE7-ECF2-41E5-8736-6917146C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C0E-FC65-434D-A3F4-31792C8D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4DB-96E8-44FD-B0A7-6E5F9A5A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D18-82CF-4152-8E9B-646E4502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9D9-860E-4738-82DB-C3B2CA4D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D9B-AC68-415B-9356-F2220EE2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76B-0652-43C3-91BA-BF83D6C3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472-2A52-47F7-B26D-E70572E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294-6CA5-46FE-93DD-0ADBA5F9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7E8C-04CF-444B-897C-6C8F65BD0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grace of the Lord Jesus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lov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communion of the Holy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 with you all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4:49Z</dcterms:created>
  <dc:creator>Anon Anon</dc:creator>
  <dc:description/>
  <dc:language>en-US</dc:language>
  <cp:lastModifiedBy>Anon Anon</cp:lastModifiedBy>
  <dcterms:modified xsi:type="dcterms:W3CDTF">2005-08-09T05:21:46Z</dcterms:modified>
  <cp:revision>8</cp:revision>
  <dc:subject/>
  <dc:title>PowerPoint Presentation</dc:title>
</cp:coreProperties>
</file>